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47F-DE76-4592-B364-8BFBE6F0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8F6-701E-4FCC-B510-1362EEB2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747-9C71-4807-B4B9-9E98168E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302-0AC4-4E72-82E5-3617E821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FC1-7328-4883-90B1-6B0A6D99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36C-6FC9-45A1-BB57-651A1207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179-9580-471F-A6B9-144B4625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020-B22E-48BC-B7C7-6EE73A57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A11-3980-48B4-9888-7D5BEA5C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F06-CC7E-4897-9E62-C2B3E66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ED4-5849-4492-8AF3-8DC15D47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5FC-D5BC-4F29-939A-55BCE622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AE7C-2B26-494A-B982-59061FF03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4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2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9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0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1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9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3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r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u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itual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c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n 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ader of the Sa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n 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Black Haw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renter of Douglass during the time of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Mr.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inner of the f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Dou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ucky token given to Douglass by Sandy Jenk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visiting Sandy the reason Douglass doesn’t get beat when he gets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It’s Sun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glass’s skill that upset his ma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ce Douglass hid Saturday when Covey chased him (before he ran into Jenk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Narrative of the Life of 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corn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ype of song that provided runaways with directions, times, and meetings places for e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are code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mbol of Pharaoh in “Go Down Mo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slave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n 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Chief Joseph’s trip towards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n 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 surr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n 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Hawk’s purpose in insp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n 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 defend their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lements combined to make spirit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frican melodies/rhythms and elements of Southern religious mus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money Mrs. Sommers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fifteen doll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objects Mrs. Sommers is going to buy at the beg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items for her children (specifically hats, shoes, cloth for mending, stock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eling Mrs. Sommers has at the end of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at she doesn’t want the day to end/to return to her normal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tems that she ate/drank at the fancy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oysters, a chop, a crème-frappe, wine,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te Chop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pin’s most commonly used topic to writ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y the stockings felt that symbolized e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k Stocking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erpent 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ype of writing that emphasizes a specific geographic setting and makes use of the speech and manners of the people in that reg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reg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ubject of re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lums, factories, corrupt politicians, and prosti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jor event that led to re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Civil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novel about the civil war (title and auth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d Badge of Cour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Stephen C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te Chop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ousewives and the constrains of life they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s in naturalism are limite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choice and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newspaper Douglass fou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rth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te Chop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pin’s most famous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te Chop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wa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Mindi Spear</cp:lastModifiedBy>
  <dcterms:modified xsi:type="dcterms:W3CDTF">2005-12-01T21:43:41Z</dcterms:modified>
  <cp:revision>42</cp:revision>
  <dc:subject/>
  <dc:title>No Slide Title</dc:title>
</cp:coreProperties>
</file>